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C3B5-CDF4-4494-8A52-4700ECAE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816200" y="4130640"/>
            <a:ext cx="7594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813E-D6C6-4F9F-8A54-5188C8F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078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816200" y="413064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07800" y="413064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16DF-09DE-4D52-BD3C-006B0988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84080" y="198108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51600" y="198108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816200" y="413064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384080" y="413064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951600" y="4130640"/>
            <a:ext cx="244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B0CE-04FE-4313-AD0E-8F2883E4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9004-5028-49C5-A124-11531D5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5E6E-3A27-4B94-A394-1A5D34B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370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07800" y="1981080"/>
            <a:ext cx="370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1D7E-0A3A-4266-B7E0-8BC5D50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ED25-F026-436B-852C-4B40681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816200" y="457200"/>
            <a:ext cx="7594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46D3-6240-4D14-8157-74A2C1B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07800" y="1981080"/>
            <a:ext cx="370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16200" y="413064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C3E5-8658-4990-A9CF-5218CCE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370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078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07800" y="413064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236E-E274-4D72-8583-2725B4B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07800" y="1981080"/>
            <a:ext cx="370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16200" y="4130640"/>
            <a:ext cx="7594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F2A5-B8FC-404D-BDC5-314DA2D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5F8-21C1-4312-91CB-E18D6091A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9080" y="6172200"/>
            <a:ext cx="9327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304920"/>
            <a:ext cx="9327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47680" y="457200"/>
            <a:ext cx="1348920" cy="1371600"/>
            <a:chOff x="247680" y="457200"/>
            <a:chExt cx="1348920" cy="1371600"/>
          </a:xfrm>
        </p:grpSpPr>
        <p:sp>
          <p:nvSpPr>
            <p:cNvPr id="7" name=""/>
            <p:cNvSpPr/>
            <p:nvPr/>
          </p:nvSpPr>
          <p:spPr>
            <a:xfrm>
              <a:off x="1012320" y="457200"/>
              <a:ext cx="482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4320" y="457200"/>
              <a:ext cx="478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3800" y="457200"/>
              <a:ext cx="482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84000" y="457200"/>
              <a:ext cx="482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5640" y="457200"/>
              <a:ext cx="482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840" y="457200"/>
              <a:ext cx="482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5680" y="457200"/>
              <a:ext cx="496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7680" y="457200"/>
              <a:ext cx="478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22480" y="457200"/>
              <a:ext cx="4428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28680" y="457200"/>
              <a:ext cx="4464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3800" y="457200"/>
              <a:ext cx="460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2160" y="457200"/>
              <a:ext cx="478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50520" y="457200"/>
              <a:ext cx="460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33400" y="457200"/>
            <a:ext cx="767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lgunos aspectos jurídicos de asociaciones civiles y fundaciones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5486400"/>
            <a:ext cx="73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PCECABA                     Isabel Friz                         22-11-20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4A44-0566-46C0-AAE0-2D8AC8174B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mbleas 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ociaciones civi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viso posteri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5 ds hábiles despu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a de asamblea ordinaria, con quorum y registro de asistencia y si se realiza en primera o segunda convocat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mina de autoridades completa si se han modificado , con aceptación de cargo y  con DDJJ de rigor.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7C1D-0F6C-48D4-8C7F-5ED53C8ED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mbleas 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33400" y="1752120"/>
            <a:ext cx="7677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ámite posteri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a de consejo de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dos contables , memoria y resumen de inventario cert por contador.( art 3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arativo de recursos y gastos Art 383 Res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stado de aut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orresponder lo indicado en el art 444 ( participación en sociedades comerci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BDDA-FFE4-44DA-8DCE-2FEFD6F71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mbleas Extra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 a presentar y plazos idem a las asambleas ordin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correspondiera a modificaciones al estatuto, reglamentos, fusión, escisión o disolución , deberá cumplirse con lo establecido en los arts. 393 y 395 Res 7/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BE93-FC10-4DD0-A3C1-F24012BBA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bio de sede social. Traslados.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amblea o reunión de Comisión Directiva o Consejo de Administ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mite de precalificación profesional .Sin modificación de estatuto puede ser hecho pro contador públ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38D2-03DF-463F-BA36-20256BCFC8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cación de la Comisión Directiva / Consejo de Administ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 427 : si se modifica la composición entre el lapso que media entre una y otra elección deberá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ámite precalificado , acta que lo resuelve, quorum , nómina , datos personales y declaración jurada. Podrá ser urg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4C90-578F-43A6-86A9-4C2A59711A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s de derecho privado- Asoc. civiles y fundaciones -Caracterí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to de bien comú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encia de finalidad luc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pro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para adquirir derechos y oblig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ueden subsistir únicamente de aporte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cesitan autorización del Estado para funcion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3461-A577-42B0-9C0E-DA5916328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s de derecho privado. Sociedades comerciales.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to principal : el fin de luc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finalidad principal es obtener un beneficio mensurable económicamente para los socios.   ( Ventajas patrimon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necesitan autorización previa del Estado , solo se regist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A6C6-B3B9-43B4-8526-639EB6D2A6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ción del Bien Común - Criterio 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umbral de “utilidad “ exigido serí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eto de los principios del sistema democrá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ofenda al orden y a la moral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roduzcan perjuicio de modo directo y concreto a bienes o intereses de un ter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lo tanto no sería aceptable un objeto contrario a la ley . Caso Swingers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596A-F27D-4D06-8FBE-E2F911AE79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cias entre asociaciones civiles y fund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as persiguen el bien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bjeto no debe ser contrario a la moral y a las buenas costumbres, y debe beneficiar directa o indirectamente a la comun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be ser contrario a la l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473F-C2B9-4AC5-9D0E-D34EC29AC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3480" y="457200"/>
            <a:ext cx="7577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cias entre asociaciones civiles y fund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4280" y="1628640"/>
            <a:ext cx="37764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ciación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to subjetivo: posee socios . Miemb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d fluida: puede hasta modificarse el objeto por decisión de la asamblea de soc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4520" y="1628640"/>
            <a:ext cx="375624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to objetivo: es un patrimonio de afectación administrado por terce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d estratificada en el estatuto: determinada por el fundador, y solo podrá modificarse si resultarte de imposible cumplimiento y el estatuto lo así lo permi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59F1-59EE-4569-B552-7708438FE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cias entre asociaciones civiles y fund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6200" y="1981080"/>
            <a:ext cx="371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ciación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o de bien común: tiene una finalidad directa de satisfacción de los asociados e indirecta de la comun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5920" y="1981080"/>
            <a:ext cx="3714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o altruista: el bien buscado es el general directamente. No puede beneficiar directa o indirectamente a los integrantes del C. de Ad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51C0-730C-4058-9D56-2BA170D1C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 Asociaciones Civi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abilidad de los dir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s asociaciones civiles Art. 46 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asociaciones que no tienen existencia legal como personas jurídicas ,serán consideradas como simples asociaciones civiles o religiosas, según el fin de su institu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sujetos de derecho bajo determinadas condi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o contrario los fundadores y sus administradores asumen responsabilidad solidaria por los actos de é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de simples asociaciones civiles en IG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AB75-2AF5-4B18-95DC-A90EB4E4B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16200" y="457200"/>
            <a:ext cx="7594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mbleas 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16200" y="19810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ociaciones civi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viso prev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5 ds hábiles 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a de comisión direc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rcular a los s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dos contables , memoria y resumen de inventario cert por contador.( art 3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stado de aut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orresponder lo indicado en el art 444 ( participación en sociedades comerci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FA27-1195-4AF0-876F-9BE1F3672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3:04:50Z</dcterms:created>
  <dc:creator>.</dc:creator>
  <dc:description/>
  <dc:language>en-US</dc:language>
  <cp:lastModifiedBy>CPCEACABA</cp:lastModifiedBy>
  <dcterms:modified xsi:type="dcterms:W3CDTF">2011-11-21T16:28:30Z</dcterms:modified>
  <cp:revision>16</cp:revision>
  <dc:subject/>
  <dc:title>Diapositiva 1</dc:title>
</cp:coreProperties>
</file>